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1FE-80C9-41F9-99AF-38F9AFC3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62C-A31C-423E-8E4E-3F12467B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9D0-1218-4AB5-BCA3-92306BCD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1FB7-1138-48D3-9A1A-143636C8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04A-B38A-4BFA-BE72-27A24567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0643-3415-41F9-88E7-F028D397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A40-7453-4AEE-BBAF-7DF03A70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655B-413A-4044-8AE0-B28CA336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B0DC-3174-4D22-A14B-5A0EEEAE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577C-3136-4588-AC91-A254D1D0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F72-C860-4BB5-9B0F-C7F04EA4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CA2-6858-42B2-BA15-3C2F5160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c3bef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37720" indent="-27720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4160" indent="-22140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50600" indent="-22140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040" indent="-22140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040" indent="-22140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040" indent="-22140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11160"/>
            <a:ext cx="9144000" cy="39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</a:t>
            </a:r>
            <a:r>
              <a:rPr b="1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章 基础知识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49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c3bef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C336-1042-4182-A810-32E788B0CB56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30.xml"/><Relationship Id="rId9" Type="http://schemas.openxmlformats.org/officeDocument/2006/relationships/slide" Target="slide30.xml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" Target="slide22.xml"/><Relationship Id="rId8" Type="http://schemas.openxmlformats.org/officeDocument/2006/relationships/slide" Target="slide27.xml"/><Relationship Id="rId9" Type="http://schemas.openxmlformats.org/officeDocument/2006/relationships/slide" Target="slide27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4.xml"/><Relationship Id="rId6" Type="http://schemas.openxmlformats.org/officeDocument/2006/relationships/slide" Target="slide34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1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  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基础知识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.1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汇编语言及特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1.2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数据表示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1.3    8086</a:t>
            </a:r>
            <a:r>
              <a:rPr b="1" lang="en-US" sz="2800" spc="-1" strike="noStrike" u="sng">
                <a:solidFill>
                  <a:srgbClr val="c3befe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CPU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和寄存器组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1.4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存储器物理地址的形成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6172200" y="5695920"/>
            <a:ext cx="2133720" cy="9334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开    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1.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原码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最高位表示符号（正数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负数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，其他位表示数值位，称为有符号数的原码表示法。 【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】有符号数的原码表示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=45=00101101B   [X]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原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 0010110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=-45,                      [X]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原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1010110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原码表示简单易懂，但若是两个异号数相加（或两个同号数相减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就要做减法。为了把减法运算转换为加法运算就引进了反码和补码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２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.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反码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正数的反码与原码相同，符号位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示，数值位值不变。负数的反码符号位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值位为原码数值位按位取反形成，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【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】有符号数的反码表示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=45=00101101B,    [X]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0010110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=-45,                       [X]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1101001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3.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补码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正数的补码与原码相同，即符号位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示，数值位值不变。负数的补码为反码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形成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【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】有符号数的补码表示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=45=00101101B     [X]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0010110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=-45                        [X]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补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1101001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4.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符号扩展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数据处理时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有时需要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二进制数扩展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二进制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要扩展的数是无符号数时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可在最高位前扩展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如果要扩展的数是补码形式的有符号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那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就要进行符号位的扩展，符号扩展后，其结果仍是该数的补码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【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.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】符号扩展表示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二进制补码为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0010101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符号扩展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二进制补码为：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00000000001010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001010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00000000001010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都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补码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5.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数据的表示范围和大小</a:t>
            </a:r>
            <a:br>
              <a:rPr sz="3600"/>
            </a:b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二进制数能够表示的无符号整数的范围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 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≤ 2n-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二进制数能够表示的有符号整数的范围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-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） ≤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≤+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-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．十六进制表示</a:t>
            </a:r>
            <a:br>
              <a:rPr sz="3600"/>
            </a:b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由于二进制数的基数太小，书写和阅读都不方便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而十六进制的基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这样二进制数与十六进制之间能方便地转换。因此，习惯把二进制数改写成十六进制数，在汇编语言程序设计时尤其如此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书写时，为了区别于十六进制和二进制数，通常在十六进制数后加字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6324480" y="5762520"/>
            <a:ext cx="198144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3befe"/>
                </a:solidFill>
                <a:uFillTx/>
                <a:latin typeface="Times New Roman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1.2.2  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字符数据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520" y="21337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ASCI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码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BC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码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．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ASCII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码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标准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CI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码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二进制数编码，共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2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计算机存储器基本单位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CI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码的最高位通常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通信时，最高位用作奇偶校验位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CI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码表中的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和最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编码是不能显示的控制字符，用于表示某种操作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CI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码表中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后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9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编码是可显示和打印的字符，其中包括数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英文字母，标点符号等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．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BCD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码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虽然二进制数实现容易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但不符合人们的使用习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且书写阅读不方便，所以在计算机输入输出时通常还是采用十进制来表示数，这就需要实现十进制与二进制间的转换。为了转换方便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常采用二进制编码的十进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简称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C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码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C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码就是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二进制数表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十进制整数。表示的方法有多种，常用的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42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C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码，它的表示规律如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.1    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黑体"/>
              </a:rPr>
              <a:t>十进制数字的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8421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CD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黑体"/>
              </a:rPr>
              <a:t>码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143000" y="1981080"/>
            <a:ext cx="7086240" cy="3962160"/>
            <a:chOff x="1143000" y="1981080"/>
            <a:chExt cx="7086240" cy="3962160"/>
          </a:xfrm>
        </p:grpSpPr>
        <p:grpSp>
          <p:nvGrpSpPr>
            <p:cNvPr id="143" name=""/>
            <p:cNvGrpSpPr/>
            <p:nvPr/>
          </p:nvGrpSpPr>
          <p:grpSpPr>
            <a:xfrm>
              <a:off x="1149120" y="1986120"/>
              <a:ext cx="7072560" cy="3950640"/>
              <a:chOff x="1149120" y="1986120"/>
              <a:chExt cx="7072560" cy="395064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1149120" y="1986120"/>
                <a:ext cx="1683000" cy="658080"/>
                <a:chOff x="1149120" y="1986120"/>
                <a:chExt cx="1683000" cy="6580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242000" y="1986120"/>
                  <a:ext cx="149724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Arial"/>
                      <a:ea typeface="黑体"/>
                    </a:rPr>
                    <a:t>十进制数字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149120" y="1986120"/>
                  <a:ext cx="168300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832480" y="1986120"/>
                <a:ext cx="1728360" cy="658080"/>
                <a:chOff x="2832480" y="1986120"/>
                <a:chExt cx="1728360" cy="6580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925360" y="1986120"/>
                  <a:ext cx="154224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Arial"/>
                      <a:ea typeface="黑体"/>
                    </a:rPr>
                    <a:t>8421</a:t>
                  </a:r>
                  <a:r>
                    <a:rPr b="0" lang="en-US" sz="2000" spc="-1" strike="noStrike">
                      <a:solidFill>
                        <a:srgbClr val="00ff00"/>
                      </a:solidFill>
                      <a:latin typeface="Arial"/>
                      <a:ea typeface="黑体"/>
                    </a:rPr>
                    <a:t>BCD</a:t>
                  </a:r>
                  <a:r>
                    <a:rPr b="0" lang="zh-CN" sz="2000" spc="-1" strike="noStrike">
                      <a:solidFill>
                        <a:srgbClr val="00ff00"/>
                      </a:solidFill>
                      <a:latin typeface="Arial"/>
                      <a:ea typeface="黑体"/>
                    </a:rPr>
                    <a:t>码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832480" y="1986120"/>
                  <a:ext cx="172836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561560" y="1986120"/>
                <a:ext cx="1819080" cy="658080"/>
                <a:chOff x="4561560" y="1986120"/>
                <a:chExt cx="1819080" cy="6580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654440" y="1986120"/>
                  <a:ext cx="16329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Arial"/>
                      <a:ea typeface="黑体"/>
                    </a:rPr>
                    <a:t>十进制数字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561560" y="1986120"/>
                  <a:ext cx="18190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6381000" y="1986120"/>
                <a:ext cx="1840680" cy="658080"/>
                <a:chOff x="6381000" y="1986120"/>
                <a:chExt cx="1840680" cy="6580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473880" y="1986120"/>
                  <a:ext cx="16545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Arial"/>
                      <a:ea typeface="黑体"/>
                    </a:rPr>
                    <a:t>8421</a:t>
                  </a:r>
                  <a:r>
                    <a:rPr b="0" lang="en-US" sz="2000" spc="-1" strike="noStrike">
                      <a:solidFill>
                        <a:srgbClr val="00ff00"/>
                      </a:solidFill>
                      <a:latin typeface="Arial"/>
                      <a:ea typeface="黑体"/>
                    </a:rPr>
                    <a:t>BCD</a:t>
                  </a:r>
                  <a:r>
                    <a:rPr b="0" lang="zh-CN" sz="2000" spc="-1" strike="noStrike">
                      <a:solidFill>
                        <a:srgbClr val="00ff00"/>
                      </a:solidFill>
                      <a:latin typeface="Arial"/>
                      <a:ea typeface="黑体"/>
                    </a:rPr>
                    <a:t>码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381000" y="1986120"/>
                  <a:ext cx="1840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149120" y="2644560"/>
                <a:ext cx="1683000" cy="658080"/>
                <a:chOff x="1149120" y="2644560"/>
                <a:chExt cx="1683000" cy="6580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242000" y="2644560"/>
                  <a:ext cx="149724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149120" y="2644560"/>
                  <a:ext cx="168300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832480" y="2644560"/>
                <a:ext cx="1728360" cy="658080"/>
                <a:chOff x="2832480" y="2644560"/>
                <a:chExt cx="1728360" cy="6580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925360" y="2644560"/>
                  <a:ext cx="154224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0000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832480" y="2644560"/>
                  <a:ext cx="172836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561560" y="2644560"/>
                <a:ext cx="1819080" cy="658080"/>
                <a:chOff x="4561560" y="2644560"/>
                <a:chExt cx="1819080" cy="6580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654440" y="2644560"/>
                  <a:ext cx="16329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5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561560" y="2644560"/>
                  <a:ext cx="18190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381000" y="2644560"/>
                <a:ext cx="1840680" cy="658080"/>
                <a:chOff x="6381000" y="2644560"/>
                <a:chExt cx="1840680" cy="658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473880" y="2644560"/>
                  <a:ext cx="16545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010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381000" y="2644560"/>
                  <a:ext cx="1840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149120" y="3303000"/>
                <a:ext cx="1683000" cy="658440"/>
                <a:chOff x="1149120" y="3303000"/>
                <a:chExt cx="1683000" cy="6584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242000" y="3303000"/>
                  <a:ext cx="149724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149120" y="3303000"/>
                  <a:ext cx="168300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832480" y="3303000"/>
                <a:ext cx="1728360" cy="658440"/>
                <a:chOff x="2832480" y="3303000"/>
                <a:chExt cx="1728360" cy="6584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925360" y="3303000"/>
                  <a:ext cx="154224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000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832480" y="3303000"/>
                  <a:ext cx="172836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561560" y="3303000"/>
                <a:ext cx="1819080" cy="658440"/>
                <a:chOff x="4561560" y="3303000"/>
                <a:chExt cx="1819080" cy="6584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654440" y="3303000"/>
                  <a:ext cx="163296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6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561560" y="3303000"/>
                  <a:ext cx="181908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381000" y="3303000"/>
                <a:ext cx="1840680" cy="658440"/>
                <a:chOff x="6381000" y="3303000"/>
                <a:chExt cx="1840680" cy="6584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473880" y="3303000"/>
                  <a:ext cx="165456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0110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381000" y="3303000"/>
                  <a:ext cx="184068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149120" y="3961800"/>
                <a:ext cx="1683000" cy="658080"/>
                <a:chOff x="1149120" y="3961800"/>
                <a:chExt cx="1683000" cy="658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242000" y="3961800"/>
                  <a:ext cx="149724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149120" y="3961800"/>
                  <a:ext cx="168300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832480" y="3961800"/>
                <a:ext cx="1728360" cy="658080"/>
                <a:chOff x="2832480" y="3961800"/>
                <a:chExt cx="1728360" cy="658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925360" y="3961800"/>
                  <a:ext cx="154224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0010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832480" y="3961800"/>
                  <a:ext cx="172836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561560" y="3961800"/>
                <a:ext cx="1819080" cy="658080"/>
                <a:chOff x="4561560" y="3961800"/>
                <a:chExt cx="1819080" cy="6580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654440" y="3961800"/>
                  <a:ext cx="16329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7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561560" y="3961800"/>
                  <a:ext cx="18190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381000" y="3961800"/>
                <a:ext cx="1840680" cy="658080"/>
                <a:chOff x="6381000" y="3961800"/>
                <a:chExt cx="1840680" cy="6580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473880" y="3961800"/>
                  <a:ext cx="16545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011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381000" y="3961800"/>
                  <a:ext cx="1840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1149120" y="4620240"/>
                <a:ext cx="1683000" cy="658080"/>
                <a:chOff x="1149120" y="4620240"/>
                <a:chExt cx="1683000" cy="6580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242000" y="4620240"/>
                  <a:ext cx="149724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149120" y="4620240"/>
                  <a:ext cx="168300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2832480" y="4620240"/>
                <a:ext cx="1728360" cy="658080"/>
                <a:chOff x="2832480" y="4620240"/>
                <a:chExt cx="1728360" cy="6580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925360" y="4620240"/>
                  <a:ext cx="154224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001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832480" y="4620240"/>
                  <a:ext cx="172836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4561560" y="4620240"/>
                <a:ext cx="1819080" cy="658080"/>
                <a:chOff x="4561560" y="4620240"/>
                <a:chExt cx="1819080" cy="658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4654440" y="4620240"/>
                  <a:ext cx="16329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8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561560" y="4620240"/>
                  <a:ext cx="18190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381000" y="4620240"/>
                <a:ext cx="1840680" cy="658080"/>
                <a:chOff x="6381000" y="4620240"/>
                <a:chExt cx="1840680" cy="6580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473880" y="4620240"/>
                  <a:ext cx="16545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1000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381000" y="4620240"/>
                  <a:ext cx="1840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149120" y="5278680"/>
                <a:ext cx="1683000" cy="658080"/>
                <a:chOff x="1149120" y="5278680"/>
                <a:chExt cx="1683000" cy="6580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242000" y="5278680"/>
                  <a:ext cx="149724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4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149120" y="5278680"/>
                  <a:ext cx="168300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2832480" y="5278680"/>
                <a:ext cx="1728360" cy="658080"/>
                <a:chOff x="2832480" y="5278680"/>
                <a:chExt cx="1728360" cy="658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2925360" y="5278680"/>
                  <a:ext cx="154224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0100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832480" y="5278680"/>
                  <a:ext cx="172836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4561560" y="5278680"/>
                <a:ext cx="1819080" cy="658080"/>
                <a:chOff x="4561560" y="5278680"/>
                <a:chExt cx="1819080" cy="6580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654440" y="5278680"/>
                  <a:ext cx="16329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9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561560" y="5278680"/>
                  <a:ext cx="18190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381000" y="5278680"/>
                <a:ext cx="1840680" cy="658080"/>
                <a:chOff x="6381000" y="5278680"/>
                <a:chExt cx="1840680" cy="6580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473880" y="5278680"/>
                  <a:ext cx="16545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ff00"/>
                      </a:solidFill>
                      <a:latin typeface="Times New Roman"/>
                      <a:ea typeface="黑体"/>
                    </a:rPr>
                    <a:t>100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381000" y="5278680"/>
                  <a:ext cx="18406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6" name=""/>
            <p:cNvSpPr/>
            <p:nvPr/>
          </p:nvSpPr>
          <p:spPr>
            <a:xfrm>
              <a:off x="1143000" y="1981080"/>
              <a:ext cx="7086240" cy="39621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6858000" y="5991120"/>
            <a:ext cx="198108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3befe"/>
                </a:solidFill>
                <a:uFillTx/>
                <a:latin typeface="Times New Roman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.1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汇编语言及特点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5640" y="20574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1" action="ppaction://hlinksldjump"/>
              </a:rPr>
              <a:t>1.1.1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2" action="ppaction://hlinksldjump"/>
              </a:rPr>
              <a:t>机器语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3" action="ppaction://hlinksldjump"/>
              </a:rPr>
              <a:t>1.1.2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4" action="ppaction://hlinksldjump"/>
              </a:rPr>
              <a:t>汇编语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5" action="ppaction://hlinksldjump"/>
              </a:rPr>
              <a:t>1.1.3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6" action="ppaction://hlinksldjump"/>
              </a:rPr>
              <a:t>高级语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7" action="ppaction://hlinksldjump"/>
              </a:rPr>
              <a:t>1.1.4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8" action="ppaction://hlinksldjump"/>
              </a:rPr>
              <a:t>汇编语言的特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>
            <a:hlinkClick r:id="rId9" action="ppaction://hlinksldjump"/>
          </p:cNvPr>
          <p:cNvSpPr/>
          <p:nvPr/>
        </p:nvSpPr>
        <p:spPr>
          <a:xfrm>
            <a:off x="6172200" y="5695920"/>
            <a:ext cx="2133720" cy="9334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3befe"/>
                </a:solidFill>
                <a:uFillTx/>
                <a:latin typeface="Times New Roman"/>
                <a:hlinkClick r:id="rId10" action="ppaction://hlinksldjump"/>
              </a:rPr>
              <a:t>返回本章首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.3    8086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PU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和寄存器组</a:t>
            </a:r>
            <a:br>
              <a:rPr sz="3600"/>
            </a:b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1" action="ppaction://hlinksldjump"/>
              </a:rPr>
              <a:t>1.3.1    </a:t>
            </a:r>
            <a:r>
              <a:rPr b="1" lang="en-US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2" action="ppaction://hlinksldjump"/>
              </a:rPr>
              <a:t>Intel</a:t>
            </a:r>
            <a:r>
              <a:rPr b="1" lang="en-US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3" action="ppaction://hlinksldjump"/>
              </a:rPr>
              <a:t>　</a:t>
            </a:r>
            <a:r>
              <a:rPr b="1" lang="en-US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4" action="ppaction://hlinksldjump"/>
              </a:rPr>
              <a:t>8086CPU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5" action="ppaction://hlinksldjump"/>
              </a:rPr>
              <a:t>内部结构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6" action="ppaction://hlinksldjump"/>
              </a:rPr>
              <a:t>1.3.2    8086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7" action="ppaction://hlinksldjump"/>
              </a:rPr>
              <a:t>寄存器组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8" action="ppaction://hlinksldjump"/>
              </a:rPr>
              <a:t>1.3.3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9" action="ppaction://hlinksldjump"/>
              </a:rPr>
              <a:t>标志寄存器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>
            <a:hlinkClick r:id="rId10" action="ppaction://hlinksldjump"/>
          </p:cNvPr>
          <p:cNvSpPr/>
          <p:nvPr/>
        </p:nvSpPr>
        <p:spPr>
          <a:xfrm>
            <a:off x="6172200" y="5695920"/>
            <a:ext cx="2133720" cy="9334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3befe"/>
                </a:solidFill>
                <a:uFillTx/>
                <a:latin typeface="Times New Roman"/>
                <a:hlinkClick r:id="rId11" action="ppaction://hlinksldjump"/>
              </a:rPr>
              <a:t>返回本章首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1.3.1   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Intel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黑体"/>
              </a:rPr>
              <a:t>　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8086CPU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内部结构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7196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21732" t="16063" r="19332" b="12334"/>
          <a:stretch/>
        </p:blipFill>
        <p:spPr>
          <a:xfrm>
            <a:off x="2362320" y="1905120"/>
            <a:ext cx="4066920" cy="37065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3132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0" lang="zh-CN" sz="900" spc="-1" strike="noStrike">
                <a:solidFill>
                  <a:srgbClr val="ffffcc"/>
                </a:solidFill>
                <a:latin typeface="Times New Roman"/>
              </a:rPr>
              <a:t>1.2  8086</a:t>
            </a:r>
            <a:r>
              <a:rPr b="0" lang="en-US" sz="900" spc="-1" strike="noStrike">
                <a:solidFill>
                  <a:srgbClr val="ffffcc"/>
                </a:solidFill>
                <a:latin typeface="Times New Roman"/>
              </a:rPr>
              <a:t>CPU</a:t>
            </a:r>
            <a:r>
              <a:rPr b="0" lang="zh-CN" sz="900" spc="-1" strike="noStrike">
                <a:solidFill>
                  <a:srgbClr val="ffffcc"/>
                </a:solidFill>
                <a:latin typeface="Times New Roman"/>
              </a:rPr>
              <a:t>内部结构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25280" y="586728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1.2  8086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PU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内部结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24480" y="5762520"/>
            <a:ext cx="198144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1.3.2    8086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寄存器组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3368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28157" t="12283" r="24944" b="12157"/>
          <a:stretch/>
        </p:blipFill>
        <p:spPr>
          <a:xfrm>
            <a:off x="2590920" y="1905120"/>
            <a:ext cx="3406680" cy="4119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80720" y="2118240"/>
            <a:ext cx="4852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1.3    8086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CPU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寄存器分组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．通用寄存器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数据寄存器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寄存器共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寄存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来保存操作数或运算结果等信息。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寄存器称为累加器。使用频度最高，用于算术、逻辑运算以及与外设传送信息等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寄存器称为基址寄存器。常用于存放存储器地址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寄存器称为计数器。一般作为循环或串操作等指令中的隐含计数器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寄存器称为数据寄存器。常用来存放双字数据的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，或存放外设端口地址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变址和指针寄存器包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寄存器，主要用于存放某个存储单元的偏移地址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源变址寄存器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目的变址寄存器，在字符串操作中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都具有自动增量或减量的功能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堆栈指针寄存器，用于存放当前堆栈段中栈顶的偏移地址；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基址指针寄存器，用于存放堆栈段中某一存储单元的偏移地址。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41520" y="1133640"/>
            <a:ext cx="26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）变址和指针寄存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．段寄存器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086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４个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的段寄存器分别称为代码段寄存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段寄存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堆栈段寄存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附加数据段寄存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段寄存器用来确定该段在内存中的起始地址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码段用来存放程序的指令序列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存放代码段的段首址，指令指针寄存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示代码段中指令的偏移地址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．指令指针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086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的指令指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它总是保存下一次将要从主存中取出指令的偏移地址，偏移地址的值为该指令到所在段段首址的字节距离。在目标程序运行时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内容由微处理器硬件自动设置，程序不能直接访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但一些指令却可改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值，如转移指令、子程序调用指令等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24480" y="5762520"/>
            <a:ext cx="198144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1.3.3  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标志寄存器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086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有一个很重要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标志寄存器，它包含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标志位，主要用于保存一条指令执行后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处状态信息及运算结果的特征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条件标志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状态控制标志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93480" y="105732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条件标志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进位标志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零标志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符号标志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溢出标志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奇偶标志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辅助进位标志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378800" y="914400"/>
            <a:ext cx="21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状态控制标志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057400" y="20574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方向标志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F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中断允许标志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追踪标志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F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24480" y="5762520"/>
            <a:ext cx="198144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1.1.1  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机器语言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计算机能够直接识别的数据是由二进制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成的代码。机器指令就是用二进制代码组成的指令，一条机器指令控制计算机完成一个基本操作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用机器语言编写的程序是计算机惟一能够直接识别并执行的程序，而用其他语言编写的程序必须经过翻译才能变换成机器语言程序，所以，机器语言程序被称为目标程序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6324480" y="5762520"/>
            <a:ext cx="198144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3befe"/>
                </a:solidFill>
                <a:uFillTx/>
                <a:latin typeface="Times New Roman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.4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存储器物理地址的形成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676160" y="20574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1" action="ppaction://hlinksldjump"/>
              </a:rPr>
              <a:t>1.4.1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2" action="ppaction://hlinksldjump"/>
              </a:rPr>
              <a:t>存储器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3" action="ppaction://hlinksldjump"/>
              </a:rPr>
              <a:t>1.4.2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4" action="ppaction://hlinksldjump"/>
              </a:rPr>
              <a:t>存储器单元的地址和内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5" action="ppaction://hlinksldjump"/>
              </a:rPr>
              <a:t>1.4.3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6" action="ppaction://hlinksldjump"/>
              </a:rPr>
              <a:t>物理地址的形成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>
            <a:hlinkClick r:id="rId7" action="ppaction://hlinksldjump"/>
          </p:cNvPr>
          <p:cNvSpPr/>
          <p:nvPr/>
        </p:nvSpPr>
        <p:spPr>
          <a:xfrm>
            <a:off x="6172200" y="5695920"/>
            <a:ext cx="2133720" cy="9334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3befe"/>
                </a:solidFill>
                <a:uFillTx/>
                <a:latin typeface="Times New Roman"/>
                <a:hlinkClick r:id="rId8" action="ppaction://hlinksldjump"/>
              </a:rPr>
              <a:t>返回本章首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1.4.1  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存储器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存储器是计算机的记忆部件，用来存放程序和数据。按所在的位置，存储器可以分成主存储器和辅助存储器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主存储器存放当前正在执行的程序和使用的数据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可以直接存取，它由半导体存储器芯片构成，其成本高，容量小，但速度快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辅助存储器可用来长期保存大量程序和数据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需要通过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/O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接口访问，它由磁盘或光盘构成，其成本低，容量大，但速度较慢。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24480" y="5762520"/>
            <a:ext cx="198144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1.4.2  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存储器单元的地址和内容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存储单元地址 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08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系统中，为了标识和存取每一个存储单元，给每个存储单元规定一个编号，这就是存储单元地址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存储单元的内容 ：一个存储单元中存放的信息称为该存储单元的内容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3276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明了存储器中部分存储单元存放信息情况。从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看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地址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456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字节的存储单元中的内容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而地址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456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字节存储单元中的内容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6236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22866" t="24315" r="45831" b="12346"/>
          <a:stretch/>
        </p:blipFill>
        <p:spPr>
          <a:xfrm>
            <a:off x="4648320" y="1066680"/>
            <a:ext cx="3074760" cy="4648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400800" y="5867280"/>
            <a:ext cx="198108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1.4.3  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物理地址的形成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086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地址线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的，这样最大可寻址空间应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 baseline="30000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=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其物理地址范围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000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FFFF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086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寄存器都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的。那么，这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空间如何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寄存器表达呢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根据要求可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字节地址空间划成若干逻辑段。每个逻辑段必须满足两个条件：一是逻辑段的起始地址（简称段首址）必须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倍数；二是逻辑段的最大长度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按照这两个条件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字节地址空间最多可划分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逻辑段，最少也要划分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逻辑段。逻辑段与逻辑段可以相连，也可以不连，还可以重叠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【例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1.5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】各独立段的分配情况示例。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S=B000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S=1CDE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S=4200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=0150H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它们分别为代码段、数据段、堆栈段和附加段的段首址。自每个段首址开始，各段均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范围，各段之间互不重叠。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96244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5433" t="34702" r="30803" b="11332"/>
          <a:stretch/>
        </p:blipFill>
        <p:spPr>
          <a:xfrm>
            <a:off x="1828800" y="1371600"/>
            <a:ext cx="5952960" cy="37861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【例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1.6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】各段相互重叠情况示例。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S=0200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S=0400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S=0480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样代码段、数据段和堆栈段的物理首地址分别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200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4000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480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其中代码段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地址空间，数据段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堆栈段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56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=0100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0481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23948" t="37102" r="13559" b="24945"/>
          <a:stretch/>
        </p:blipFill>
        <p:spPr>
          <a:xfrm>
            <a:off x="1523880" y="1905120"/>
            <a:ext cx="6400800" cy="28605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117600" y="5029200"/>
            <a:ext cx="32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1.6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各段重叠存储单元分配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24480" y="5762520"/>
            <a:ext cx="198144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Thank you very much !</a:t>
            </a:r>
            <a:endParaRPr b="1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99520" y="3124080"/>
            <a:ext cx="48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本章到此结束，谢谢您的光临！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6172200" y="5695920"/>
            <a:ext cx="2133720" cy="9334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3befe"/>
                </a:solidFill>
                <a:uFillTx/>
                <a:latin typeface="Times New Roman"/>
                <a:hlinkClick r:id="rId2" action="ppaction://hlinksldjump"/>
              </a:rPr>
              <a:t>返回本章首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endshow"/>
          </p:cNvPr>
          <p:cNvSpPr/>
          <p:nvPr/>
        </p:nvSpPr>
        <p:spPr>
          <a:xfrm>
            <a:off x="3809880" y="5638680"/>
            <a:ext cx="2133720" cy="9334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结    束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Arial"/>
              </a:rPr>
              <a:t>1.1.2    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黑体"/>
              </a:rPr>
              <a:t>汇编语言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了克服机器语言的缺点，人们采用助记符表示机器指令的操作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变量代替操作数的存放地址等，这样就形成了汇编语言。所以汇编语言是一种用符号书写的、基本操作与机器指令相对应的、并遵循一定语法规则的计算机语言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汇编语言编写的程序称为汇编源程序。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汇编语言是一种符号语言，比机器语言容易理解和掌握，也容易调试和维护。但是，汇编语言源程序要翻译成机器语言程序才可以由计算机执行。这个翻译的过程称为“汇编”，这种把汇编源程序翻译成目标程序的语言加工程序称为汇编程序。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6324480" y="5991120"/>
            <a:ext cx="198144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3befe"/>
                </a:solidFill>
                <a:uFillTx/>
                <a:latin typeface="Times New Roman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1.1.3 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高级语言</a:t>
            </a:r>
            <a:br>
              <a:rPr sz="3600"/>
            </a:b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汇编语言虽然较机器语言直观，但仍然烦琐难懂。于是人们研制出了高级程序设计语言。高级程序设计语言接近于人类自然语言的语法习惯，与计算机硬件无关，易被用户掌握和使用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目前广泛应用的高级语言有多种，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SI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TRA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+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等等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6324480" y="5762520"/>
            <a:ext cx="198144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3befe"/>
                </a:solidFill>
                <a:uFillTx/>
                <a:latin typeface="Times New Roman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1.1.4  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汇编语言的特点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汇编语言与处理器密切相关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汇编语言程序效率高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编写汇编语言源程序比编写高级语言源程序烦琐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调试汇编语言程序比调试高级语言程序困难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汇编语言的主要应用场合：</a:t>
            </a:r>
            <a:br>
              <a:rPr sz="3600"/>
            </a:b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程序执行占用较短的时间，或者占用较小存储容量的场合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程序与计算机硬件密切相关，程序直接控制硬件的场合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需提高大型软件性能的场合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没有合适的高级语言的场合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6324480" y="5762520"/>
            <a:ext cx="1981440" cy="8668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3befe"/>
                </a:solidFill>
                <a:uFillTx/>
                <a:latin typeface="Times New Roman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.2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数据表示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1" action="ppaction://hlinksldjump"/>
              </a:rPr>
              <a:t>1.2.1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2" action="ppaction://hlinksldjump"/>
              </a:rPr>
              <a:t>数值数据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Arial"/>
                <a:hlinkClick r:id="rId3" action="ppaction://hlinksldjump"/>
              </a:rPr>
              <a:t>1.2.2    </a:t>
            </a:r>
            <a:r>
              <a:rPr b="1" lang="zh-CN" sz="2800" spc="-1" strike="noStrike" u="sng">
                <a:solidFill>
                  <a:srgbClr val="c3befe"/>
                </a:solidFill>
                <a:uFillTx/>
                <a:latin typeface="Arial"/>
                <a:ea typeface="黑体"/>
                <a:hlinkClick r:id="rId4" action="ppaction://hlinksldjump"/>
              </a:rPr>
              <a:t>字符数据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>
            <a:hlinkClick r:id="rId5" action="ppaction://hlinksldjump"/>
          </p:cNvPr>
          <p:cNvSpPr/>
          <p:nvPr/>
        </p:nvSpPr>
        <p:spPr>
          <a:xfrm>
            <a:off x="6172200" y="5695920"/>
            <a:ext cx="2133720" cy="93348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3befe"/>
                </a:solidFill>
                <a:uFillTx/>
                <a:latin typeface="Times New Roman"/>
                <a:hlinkClick r:id="rId6" action="ppaction://hlinksldjump"/>
              </a:rPr>
              <a:t>返回本章首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Arial"/>
              </a:rPr>
              <a:t>1.2.1   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数值数据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值数据分为有符号数和无符号数。无符号数最高位表示数值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而有符号数最高位表示符号。有符号数有不同的编码方式，常用的是补码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02:39:23Z</dcterms:created>
  <dc:creator>hai</dc:creator>
  <dc:description/>
  <dc:language>en-US</dc:language>
  <cp:lastModifiedBy>li</cp:lastModifiedBy>
  <dcterms:modified xsi:type="dcterms:W3CDTF">2001-11-11T14:09:34Z</dcterms:modified>
  <cp:revision>36</cp:revision>
  <dc:subject/>
  <dc:title>第1章    基础知识 </dc:title>
</cp:coreProperties>
</file>